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7245-8A42-494E-B217-F111E4952DD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609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8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Qualitative Research: Data Analysis and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the processes and strategies involved in data analy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the processes and strategies involved in data interpre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eps in Analyzing Qualitative Research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iterative ste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ading/memoing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coming familiar with the data and identifying potential the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cribing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amining the data in depth to provide detailed descriptions of the setting, participants, and activ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assifying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tegorizing and coding pieces of data and grouping them into the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eps in Analyzing Qualitative Research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ing/Memo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nd write memos of all field notes, transcripts, and observer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 an initial sense of the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irst time through qualitative data it is critical to write down your initial thoughts as you will never look at the data with ‘fresh’ eyes ag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to search for recurring themes or common threa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eps in Analyzing Qualitative Research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504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 thorough and comprehensive descriptions of the participants, the setting, and the phenomen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ons are based upon your observations, interview data, artifact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plete understanding of the context is a result of descri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may describe in chronological order, or another fr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how participants define their situations and explain their action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eps in Analyzing Qualitative Research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cation includes breaking down data through coding and then categorizing the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egories are necessary for analy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ategories developed may not be the same categories another researcher would devel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Strateg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ing t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way to begin analyzing qualitative data is to consider the big picture and start to list themes that have emerged through data collection and literature review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ing themes is a strategy that works well during memoing pha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Strateg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ng qualitativ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ng entails categorically marking or referencing units of text with codes and labe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ng allows for identification of patterns and mea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searchers find using cards helpful in the coding pro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ng takes time and attention to detai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Strateg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lines for 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her photocopies of your original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through the data and add working labe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 and paste blocks of text to cards and meaningfully label the c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cards with similar labe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sit and resort cards a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Strateg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king key qu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through a series of questions can assist qualitative data analys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Who has resources? When does this problem occur? Who is centrally involv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ing an organizational re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characteristics of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vision and mission, organizational structure, goals and objectives, problems and concer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Strateg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pt map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can ask participants to create concept maps of their perspecti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ing antecedents and consequ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ly mapping the causes and effects allows researchers to see potential causal relations in the context or in th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Strateg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laying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ous displays can assist researchers in summarizing data they have collec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rixes, graphs, figures, concept m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ng what is mi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note what components are still missing from their understand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also identify remaining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and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 data is a formidable task for all qualitative researc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 qualitative data is difficult, time-consuming, and challeng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 qualitative data involves summarizing data in a dependable and accurate mann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 qualitative data takes pati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 qualitative data requires the researcher to be reflec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litative Data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researchers use software to assist in analyzing their qualitative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will not analyze qualitative data without active participation and decision making by the resear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litative Data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ciding whether to use qualitative data analysis software consider the following ques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amount of data very large (i.e., more than 500 pages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dequate training avail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resources available to purchase and use the progr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re a need to capture specific quotes from the da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ing data interpretation four primary questions are address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important in the dat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is it import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can be learned from the dat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what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ative data interpretation is pers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Interpretation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 the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 questions about the stu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r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 findings with personal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advice of critical fri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ualize findings in the liter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rn to the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 when to say w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suring credibility of th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ative researchers can ask themselves questions to check the quality of their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he data based on observation or hearsa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observations corroborated by othe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hat circumstances was an observation made or repor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suring credibility of th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liable are those providing the dat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motivations may have influenced a participant’s repor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biases may have influenced how an observation was made or repor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and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during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 in qualitative research begins with initial interactions in the fie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n the field, qualitative researchers must consider how they will make sense of the data that they are collec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and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during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qualitative researcher goes through iterations while collecting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ther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in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ring prior data to new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ing up field notes before re-entering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ing plans to collect new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qualitative researcher is careful not to jump to conclusions too early during data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and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during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llection and analysis interact in qualitative re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qualitative researcher asks questions while collect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What new ideas have emerg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does this focus mean? What else do I want to know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Is my research question still answerable? Am I collecting the kind of data I want and am I filtering out data that I don’t wan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and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after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ative data analysis is inducti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rrowing the data into smaller meaningful important groups of key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not a single method for analyzing qualitative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difficult to set a time frame for qualitative analys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prior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and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after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ing data is multi-stage pro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egoriz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hesiz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ative researchers must know their data intimately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and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organizing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dates on all no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all notes with lab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bel notes according to ty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photocopies of all notes and retain original cop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and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e computer files into folders by type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back-up copies of all f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through data and make sure all information is comple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 to note themes and patterns as they emer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9T13:55:46Z</dcterms:modified>
  <cp:revision>89</cp:revision>
  <dc:subject/>
  <dc:title>AutoCAD Architecture 2008: Part I: Getting Started</dc:title>
</cp:coreProperties>
</file>